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B28B-610E-4F3E-8393-7D7FF061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7CE-0A28-4590-B633-5F714213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7545-0FB6-4458-BB3B-3FFB341F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5B3-068F-4869-8206-0EA26D60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CD02-C4E1-4653-9B1E-D691AED4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55E-8329-49B8-AA81-6C8DEF18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ECB-873A-44E5-8977-47078BFE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979-6517-44DE-8225-1D5AD20F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F3AC-3B7E-4332-A9C1-5CACC994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9B4-B249-40F0-9759-8FDA2CDA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459-A0C1-4DC8-A40A-38451BDF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037-C7D3-4AD9-8396-53409681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2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5141F9-ECBB-44A1-906E-904CF85CBADA}" type="slidenum">
              <a:rPr b="1" lang="en-GB" sz="12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attice Graphics: A closer loo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anging Lattice parameters and adding key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hen a Lattice device is opened, it has various colours, line-types, plotting symbols, &amp;c associated with it that any printing of Lattice objects will us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You can change these choices – but it gets messy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You need to know how to access this scheme if you want to set a key saying what’s wha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est to keep an example on hand that works and re-read the help information with this example in min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6C9-D93F-42CD-A001-32BF460E41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Getting and setting Lattice pa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ellis.device(x1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ps &lt;- trellis.par.get("superpose.symbol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p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$cex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[1] 0.8 0.8 0.8 0.8 0.8 0.8 0.8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$pch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[1] 1 1 1 1 1 1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ps$pch &lt;- 1: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ellis.par.set("superpose.symbol", sp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AF7-2400-4C4D-B85C-3685CDFFB18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The Stormer viscometer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32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Dependent variable: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Tim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Independent variables: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Viscosity, Weight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oretical 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Plotting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Time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 vs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Viscosity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 should give straight lines with slope depending on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Weight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Time ~ Viscosity, stormer, groups = Wt, type = "b"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n = "Stormer viscometer calibration data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ev.off(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197080" y="2604960"/>
          <a:ext cx="237636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2604960"/>
                    <a:ext cx="237636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01C-349F-44BB-B42A-2C368BE94D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DA33-9AAB-4482-9521-0F5E40D022BE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ng the ke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xyplot(Time ~ Viscosity, stormer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groups = W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type = "b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AU" sz="3200" spc="-1" strike="noStrike">
                <a:solidFill>
                  <a:srgbClr val="000000"/>
                </a:solidFill>
                <a:latin typeface="Courier New"/>
              </a:rPr>
              <a:t>auto.key = TRUE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"Stormer viscometer calibration data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42A-9B74-4AFE-AF62-DAC324FA14E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FF8F-5CBD-4392-B09E-786DCC21312F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rtificial example: adding fitted valu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ummy &lt;- data.frame(x = rep(1:20, 10)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 = factor(rep(LETTERS[1:10], each = 20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ummy$y &lt;- (dummy$x - 10.5)^2 + rnorm(100, sd = 5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yplot(y ~ x | f, dummy, as.table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m &lt;- lm(y ~ f + poly(x, 2), dummy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ummy$fitted &lt;- fitted(fm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yplot(y ~ x | f, dummy, as.table = T, subscripts = T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epanel = function(x, y, subscripts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st(xlim = range(x)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ylim = range(y, dummy$fitted[subscripts]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x = diff(range(x)), dy = diff(range(y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nes(spline(x, dummy$fitted[subscripts]), col = 3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, aspect = "xy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E93-19B1-4B15-BF87-1082821591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493236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3236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419640" y="2252520"/>
          <a:ext cx="515304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2252520"/>
                    <a:ext cx="515304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6928-FBD6-48EE-832D-AF7978B055D6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three-dimensional 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ind("volcano.S")  </a:t>
            </a:r>
            <a:r>
              <a:rPr b="0" lang="en-GB" sz="1400" spc="-1" strike="noStrike">
                <a:solidFill>
                  <a:srgbClr val="ff0000"/>
                </a:solidFill>
                <a:latin typeface="Courier New"/>
              </a:rPr>
              <a:t># courtesy Ross Ihaka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[1] "package:datasets"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(volcano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[1] "matrix"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gt; dim(volcano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[1] 87 6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# volcano &lt;- as.matrix(volcano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 &lt;- 10*(1:nrow(volcano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y &lt;- 10*(1:ncol(volcano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dat &lt;- transform(expand.grid(x = x, y = y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 = as.vector(volcano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age.palette(heat.colors(256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evelplot(v ~ x*y, vdat, main = "Maunga Whau Volcano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age.palette(topo.colors(256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wireframe(v ~ x*y, vdat, drape = T, main = "Maunga Whau Volcano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BF4-5F4D-4CFF-83DF-CC3AFBF740D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levelplot(v ~ x*y, vda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ol.regions = heat.colors(256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"Maunga Whau Volcano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levelplot(v ~ x*y, vdat, contour = TRU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pretty = TRU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ol.regions = topo.colors(256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"Maunga Whau Volcano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wireframe(v ~ x*y, vdat, drape = TRU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ol.regions = terrain.colors(256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"Maunga Whau Volcano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F51-7547-4C1D-9666-933DA20877A5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ternative to traditional graphics, but based on it and roughly parallel to i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mplementing the ideas of Bill Cleveland, and simplest to use when defaults are appropriat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cremental construction is not feasible: the entire object must be constructed in a seamless oper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unctions generate Lattice objects; it is the printing of these objects that produces graphical outpu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attice objects may be updated, but this is not often necessa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st of functions – page 91 of MAS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ED8-4079-4CB4-8473-D8318F01B2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200-668F-4131-A7D4-19D64D11078E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22B-A1DE-4ED6-A5D0-C0729E44B715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3E9-64A0-4249-A0F8-95FF51760D17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Dynamic vers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equire(rg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z &lt;- 2 * volcano       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Exaggerate the relief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x &lt;- 10 * (1:nrow(z))  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10 meter spacing (S to N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y &lt;- 10 * (1:ncol(z))  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10 meter spacing (E to W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zlim &lt;- range(z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zlen &lt;- zlim[2] - zlim[1] + 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lorlut &lt;- topo.colors(zlen)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color lookup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l &lt;- colorlut[ z-zlim[1]+1 ]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assign colors to heights for each point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open3d(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urface3d(x, y, z, color=col, back="lines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683-F985-47AC-BE84-C97C61A8B32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762984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906-0B33-4600-B8A7-A0558731026E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762984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5CF7-3A79-44FB-9A33-55DD7A6F5881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762984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A33-68F1-4BF9-ADF5-9A8E980CE211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simple example: the Whiteside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quire(MA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ames(whitesid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1] "Insul" "Temp"  "Gas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Gas ~ Temp | Insul, whiteside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mline(x, y, col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, as.table = T, aspect = 0.6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eadily apparent that insulation reduces the need for heating gas, but the slope is less negative with increasing temperatur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044-5A2B-4D86-A2EB-2B76A99CFBA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25D-7D0D-41E6-AA78-9FF339FAD44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ll in one cal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Gas ~ Temp | Insul, whiteside, 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mline(x, y, col=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, as.table = TRUE, aspect = 0.61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lim = c(0, max(whiteside$Gas)+0.5)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lab = "Temperature"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lab = "Gas consumption"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n =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"Whiteside data on domestic gas consumption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ayout = c(2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5A6-53E1-48BF-A1B6-F52C0BA70D1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tra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ke sure the y-axis has a zero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lim = c(0, max(whiteside$Gas))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ive proper labels to the x- and y-axes and add a main label at the top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lab = "Gas consumption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lab = "Temperature"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ain =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Whiteside data on domestic gas consumption"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de-by-side layout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ayout = c(2,1)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CE58-C427-4506-9D8D-71DA3DD546B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19279" r="0" b="22570"/>
          <a:stretch/>
        </p:blipFill>
        <p:spPr>
          <a:xfrm>
            <a:off x="611280" y="620640"/>
            <a:ext cx="8064360" cy="468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945F-6A4A-4108-83D6-61B5585F9EDD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e-linking the sca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Gas ~ Temp | Insul, whiteside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lab = "External temperature"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lab = "Gas consumption"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n = "Whiteside heating data", aspect = 0.6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mline(x, y, ..., col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, scales = list(relation = "free"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plot is now almost misleading!  Where possible make full use of linked scales in the panel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DFC-D2DF-477F-9811-6ACD41A4A0D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521-71E5-4AD0-B1A0-5B70D90E3ABF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7T00:36:20Z</dcterms:modified>
  <cp:revision>18</cp:revision>
  <dc:subject/>
  <dc:title>S-PLUS, An Introduction to the System</dc:title>
</cp:coreProperties>
</file>